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A9E-0697-462D-97A0-2005746E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C0D-14BF-4C4E-8BC4-E1D8F120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32C-EFD5-4D76-B8A7-91CDAA4D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A7D-DDD5-426F-B44B-C1BCAD37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CE0-5EB3-4595-9BDD-19BE3C13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2A0-6B46-4241-96CF-B612C3DF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D02-F3A0-49F5-95DC-1B6C7EEB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A703-B3F6-49D1-865F-07520BB9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715-E106-4721-8299-7C462D05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5D7-7E74-4405-AC43-5AB6AFE9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9B81-BD95-4135-9C19-4D86F500B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451D-AA29-4B2F-A1C3-2F4BA83C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2C5-222B-487B-AE41-0E7DDCDE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E34-6421-4A42-9982-92D5A0CE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B83-F9FA-45AA-B288-6237DCAE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C8D-BBEC-417D-9202-5E466496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6B6-70A8-4C31-A7C0-065780D2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A7E-592A-4FDF-A527-78D320F7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742-9C11-43F5-AD8D-3DE9763D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3431-7215-4E32-9724-D23F808D3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5FA1-53E4-47F0-B455-0D890D33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D28-9E60-4B22-B94A-F297F528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723-1D81-4219-B800-B2A4731E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930-D7A9-491E-B712-6029AC11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D5D-1478-405D-BCFF-CBB14230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8B8A-DEC9-41BA-A38F-45334216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FE6C-ABB3-46CC-ADCF-036B9724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BD5-26FA-4DF1-A5F2-7D41BA74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A486-6DC8-410A-A951-66F71DCA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1CB-FDC0-47C0-9FB9-711CB2B7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45B3-2489-487F-967E-5F7879D8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32713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826520"/>
            <a:ext cx="264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8265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271320"/>
            <a:ext cx="40158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826520"/>
            <a:ext cx="8229600" cy="14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2713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3560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05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268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45160" indent="-435600"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5"/>
          <p:cNvSpPr/>
          <p:nvPr/>
        </p:nvSpPr>
        <p:spPr>
          <a:xfrm>
            <a:off x="39600" y="6553080"/>
            <a:ext cx="35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2014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419720" y="1676520"/>
            <a:ext cx="4647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lectrochemist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419720" y="1143000"/>
            <a:ext cx="47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e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4419720" y="5791320"/>
            <a:ext cx="4724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ison So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80924Tro3e_ecat.jpg"/>
          <p:cNvPicPr/>
          <p:nvPr/>
        </p:nvPicPr>
        <p:blipFill>
          <a:blip r:embed="rId1"/>
          <a:stretch/>
        </p:blipFill>
        <p:spPr>
          <a:xfrm>
            <a:off x="304920" y="990720"/>
            <a:ext cx="40939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57200" y="91440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e salt bridge in an electrochemic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2133720"/>
            <a:ext cx="78487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intain electrical neutrality in the half-ce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 migration of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source of ions to react at the a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oxygen to facilitate oxidation at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node to the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thode to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91440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e salt bridge in an electrochemic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2133720"/>
            <a:ext cx="80773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intain electrical neutrality in the half-cel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a migration of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source of ions to react at the a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oxygen to facilitate oxidation at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node to the cath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 means for electrons to travel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thode to the a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914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educing agent in the follow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438280"/>
            <a:ext cx="8402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reducing agent in an electrochemic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089800" y="18288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 (s) |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| 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 Ag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914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educing agent in the follow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2438280"/>
            <a:ext cx="8402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is no reducing agent in an electrochemic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089800" y="182880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 (s) |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| A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q) | Ag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914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is the best reducing ag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108160"/>
            <a:ext cx="1752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819520" y="20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19520" y="2795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819520" y="351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8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914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is the best reducing ag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108160"/>
            <a:ext cx="1752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819520" y="2071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819520" y="2795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Z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819520" y="351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8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914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for the following reaction  under standard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2717640"/>
            <a:ext cx="228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958400" y="198108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→ 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819520" y="2986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2819520" y="39765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2.3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914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for the following reaction  under standard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2717640"/>
            <a:ext cx="2286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2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.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958400" y="198108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→ 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819520" y="2986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819520" y="39765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2.3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metals will dissolve in nitric acid but not in hydrochlor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2717640"/>
            <a:ext cx="1371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18_01_Table.jpg"/>
          <p:cNvPicPr/>
          <p:nvPr/>
        </p:nvPicPr>
        <p:blipFill>
          <a:blip r:embed="rId1"/>
          <a:srcRect l="0" t="16076" r="0" b="28631"/>
          <a:stretch/>
        </p:blipFill>
        <p:spPr>
          <a:xfrm>
            <a:off x="2590920" y="1828800"/>
            <a:ext cx="61005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metals will dissolve in nitric acid but not in hydrochlor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2717640"/>
            <a:ext cx="1371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18_01_Table.jpg"/>
          <p:cNvPicPr/>
          <p:nvPr/>
        </p:nvPicPr>
        <p:blipFill>
          <a:blip r:embed="rId1"/>
          <a:srcRect l="0" t="16076" r="0" b="28631"/>
          <a:stretch/>
        </p:blipFill>
        <p:spPr>
          <a:xfrm>
            <a:off x="2590920" y="1828800"/>
            <a:ext cx="61005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efficient of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following redox equation is bala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2438280"/>
            <a:ext cx="7696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1143000" y="169056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ヒラギノ角ゴ Pro W3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→ 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cell that employs the following overal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for the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3973680"/>
            <a:ext cx="8229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7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1439640" y="1828800"/>
            <a:ext cx="63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3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→  2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6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133720" y="2867040"/>
            <a:ext cx="4952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ヒラギノ角ゴ Pro W3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2 I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0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3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3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Al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–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9144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cell that employs the following overal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for the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3973680"/>
            <a:ext cx="8229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36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7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439640" y="1828800"/>
            <a:ext cx="630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3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→  2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+  6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133720" y="2867040"/>
            <a:ext cx="4952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ヒラギノ角ゴ Pro W3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2 I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0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dec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l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3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+ 3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ヒラギノ角ゴ Pro W3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→ Al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–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the equilibrium constant when the cell potential is found to be −0.29 V for a transf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les of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57200" y="2565360"/>
            <a:ext cx="4135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.6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.4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8088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the equilibrium constant when the cell potential is found to be −0.29 V for a transfer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moles of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2565360"/>
            <a:ext cx="4135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.6 × 10</a:t>
            </a:r>
            <a:r>
              <a:rPr b="1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0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6.4 × 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18_09_Figure.jpg"/>
          <p:cNvPicPr/>
          <p:nvPr/>
        </p:nvPicPr>
        <p:blipFill>
          <a:blip r:embed="rId1"/>
          <a:srcRect l="0" t="0" r="0" b="3166"/>
          <a:stretch/>
        </p:blipFill>
        <p:spPr>
          <a:xfrm>
            <a:off x="3657600" y="3352680"/>
            <a:ext cx="4025880" cy="3225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914400"/>
            <a:ext cx="8534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an electrochemical  cell at 298 K with Mg/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Fe/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de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[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05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355608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→ Fe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→ Mg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2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8_09_Figure.jpg"/>
          <p:cNvPicPr/>
          <p:nvPr/>
        </p:nvPicPr>
        <p:blipFill>
          <a:blip r:embed="rId1"/>
          <a:srcRect l="0" t="0" r="0" b="3166"/>
          <a:stretch/>
        </p:blipFill>
        <p:spPr>
          <a:xfrm>
            <a:off x="3657600" y="3352680"/>
            <a:ext cx="4025880" cy="3225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457200" y="914400"/>
            <a:ext cx="8534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cell potential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an electrochemical  cell at 298 K with Mg/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Fe/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ode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0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[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05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355608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5720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→ Fe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+ 2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→ Mg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2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18_12_Figure.jpg"/>
          <p:cNvPicPr/>
          <p:nvPr/>
        </p:nvPicPr>
        <p:blipFill>
          <a:blip r:embed="rId1"/>
          <a:srcRect l="50247" t="5290" r="0" b="0"/>
          <a:stretch/>
        </p:blipFill>
        <p:spPr>
          <a:xfrm>
            <a:off x="3733920" y="2133720"/>
            <a:ext cx="4246560" cy="4543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5720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centration cell is assembled with a copper anode and cathode. One cell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5 M and the other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2.5 M. What is the cell potent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256536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18_12_Figure.jpg"/>
          <p:cNvPicPr/>
          <p:nvPr/>
        </p:nvPicPr>
        <p:blipFill>
          <a:blip r:embed="rId1"/>
          <a:srcRect l="50247" t="5290" r="0" b="0"/>
          <a:stretch/>
        </p:blipFill>
        <p:spPr>
          <a:xfrm>
            <a:off x="3733920" y="2133720"/>
            <a:ext cx="4246560" cy="4543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457200" y="91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centration cell is assembled with a copper anode and cathode. One cell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0.25 M and the other has [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= 2.5 M. What is the cell potent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565360"/>
            <a:ext cx="2590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3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9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ass of nickel can be plated from a solution containing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current of 3.6 A for 14 minu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1981080"/>
            <a:ext cx="3352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9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8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7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7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ass of nickel can be plated from a solution containing N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 current of 3.6 A for 14 minu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7200" y="1981080"/>
            <a:ext cx="3352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92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8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7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7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efficient of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following redox equation is bala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2438280"/>
            <a:ext cx="7696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1143000" y="169056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ヒラギノ角ゴ Pro W3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→ F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+ M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ヒラギノ角ゴ Pro W3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acrificial electrode     for i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2514600"/>
            <a:ext cx="7924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819520" y="2184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1.5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19520" y="2878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19520" y="4265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1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819520" y="495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819520" y="5653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2.37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819520" y="3571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03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914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is the best sacrificial electrode     for i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2514600"/>
            <a:ext cx="79246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819520" y="2184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1.5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819520" y="2878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u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0.34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2819520" y="4265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P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1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2819520" y="4959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Ni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–0.2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819520" y="5653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2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Mg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2.37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2819520" y="3571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dec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 + 3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ヒラギノ角ゴ Pro W3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F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–0.03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8_16_Figure.jpg"/>
          <p:cNvPicPr/>
          <p:nvPr/>
        </p:nvPicPr>
        <p:blipFill>
          <a:blip r:embed="rId1"/>
          <a:srcRect l="0" t="0" r="0" b="4181"/>
          <a:stretch/>
        </p:blipFill>
        <p:spPr>
          <a:xfrm>
            <a:off x="2743200" y="3154320"/>
            <a:ext cx="5553000" cy="294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reaction occurs in a lead storage battery.  How many moles of electrons are transferred in the following balanced redox equation per reaction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2895480"/>
            <a:ext cx="190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160" y="18288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b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Pb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2 H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→ 2 Pb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8_16_Figure.jpg"/>
          <p:cNvPicPr/>
          <p:nvPr/>
        </p:nvPicPr>
        <p:blipFill>
          <a:blip r:embed="rId1"/>
          <a:srcRect l="0" t="0" r="0" b="4181"/>
          <a:stretch/>
        </p:blipFill>
        <p:spPr>
          <a:xfrm>
            <a:off x="2743200" y="3154320"/>
            <a:ext cx="5553000" cy="2941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reaction occurs in a lead storage battery.  How many moles of electrons are transferred in the following balanced redox equation per reaction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2895480"/>
            <a:ext cx="1905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8160" y="182880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b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Pb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2 H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aq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→ 2 Pb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2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914400"/>
            <a:ext cx="7620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water molecules will there be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alanced in 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429000"/>
            <a:ext cx="5867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914400"/>
            <a:ext cx="7620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water molecules will there be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CN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alanced in 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3429000"/>
            <a:ext cx="58672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reacta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n the produc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8_03_Figure.jpg"/>
          <p:cNvPicPr/>
          <p:nvPr/>
        </p:nvPicPr>
        <p:blipFill>
          <a:blip r:embed="rId1"/>
          <a:srcRect l="0" t="0" r="0" b="2969"/>
          <a:stretch/>
        </p:blipFill>
        <p:spPr>
          <a:xfrm>
            <a:off x="4564080" y="2333520"/>
            <a:ext cx="3513240" cy="3000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ransformation could take place 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    an 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2284560"/>
            <a:ext cx="38862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→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V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cath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anod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8_03_Figure.jpg"/>
          <p:cNvPicPr/>
          <p:nvPr/>
        </p:nvPicPr>
        <p:blipFill>
          <a:blip r:embed="rId1"/>
          <a:srcRect l="0" t="0" r="0" b="2969"/>
          <a:stretch/>
        </p:blipFill>
        <p:spPr>
          <a:xfrm>
            <a:off x="4564080" y="2333520"/>
            <a:ext cx="3513240" cy="300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ransformation could take place 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    an electrochemical c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2284560"/>
            <a:ext cx="38862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→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V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cath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 woul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s anod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6:19:00Z</dcterms:created>
  <dc:creator>laser</dc:creator>
  <dc:description/>
  <dc:language>en-US</dc:language>
  <cp:lastModifiedBy>whitney twining</cp:lastModifiedBy>
  <dcterms:modified xsi:type="dcterms:W3CDTF">2015-01-12T19:25:49Z</dcterms:modified>
  <cp:revision>5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